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8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F56-FF57-4378-B91C-9136FD636E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A9A-10D7-4468-9C7B-C23842AE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D00-A9B9-4CDB-BE6A-1539C8FD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1BA-9865-4F30-AB44-4AE6D8EB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D4A-ECA9-49B8-915D-44DD9D89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DB2-FD19-40FC-84DE-49D17D3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E3F-8E06-4E07-AC36-6791AA64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359-1952-4059-8C6F-33B6EC84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192-C1C8-4B36-9ECF-C4089DAE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386-E6D8-4AD0-94DA-F1916F0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0D7-1E4D-41D9-8E55-ED441111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57A-794A-4A66-B795-AD58B6F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70A-5AA4-47F0-9AF1-1CAC2A73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FDFF-173B-49C8-A757-DF26E19D8B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8AE-E411-4C79-8F7E-6C76DBC15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52280" y="1928880"/>
            <a:ext cx="89917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Calibri"/>
              </a:rPr>
              <a:t>Развитие института общей врачебной практики в Республике Татарста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заместитель министра здравоохранения Республики Татарстан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.А.Гильм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928800" y="5143680"/>
            <a:ext cx="4857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00040" y="78588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4f81bd"/>
                </a:solidFill>
                <a:latin typeface="Calibri"/>
              </a:rPr>
              <a:t>Министерство здравоохранения Республики Татарс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35772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с. Актаныш, 29 мая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E829-29E9-4E38-8FD9-AB65C7198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с. Актаныш, 29 мая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A206-B768-4840-A0D1-5B78A504A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50720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714240" y="64296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Bookman Old Style"/>
                <a:ea typeface="바탕"/>
              </a:rPr>
              <a:t>Переход к общеврачебной практике – это  не только выбор наиболее эффективных и экономических форм оптимизации медицинской помощи, а необходимость интегрального видения человека, его здоровья и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928800" y="1643040"/>
          <a:ext cx="7315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43040"/>
                    <a:ext cx="7315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CAE-DAE1-4CBF-A7B7-D87A91B01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857240" cy="17859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534E-5765-4AE6-AE66-C82511B6F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928880" y="142920"/>
            <a:ext cx="7072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Динамика численности работающих врачей общей практики в Республике Татарстан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за 2003-2007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95280" y="6453360"/>
            <a:ext cx="874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 flipV="1">
            <a:off x="2000160" y="1571760"/>
            <a:ext cx="6856560" cy="4608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3"/>
          <p:cNvSpPr/>
          <p:nvPr/>
        </p:nvSpPr>
        <p:spPr>
          <a:xfrm>
            <a:off x="6429240" y="2786040"/>
            <a:ext cx="1857600" cy="264312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643120"/>
              <a:gd name="textAreaBottom" fmla="*/ 2552760 h 2643120"/>
            </a:gdLst>
            <a:ahLst/>
            <a:rect l="textAreaLeft" t="textAreaTop" r="textAreaRight" b="textAreaBottom"/>
            <a:pathLst>
              <a:path w="21600" h="30732">
                <a:moveTo>
                  <a:pt x="3600" y="0"/>
                </a:moveTo>
                <a:arcTo wR="3600" hR="3600" stAng="16200000" swAng="-5400000"/>
                <a:lnTo>
                  <a:pt x="0" y="27132"/>
                </a:lnTo>
                <a:arcTo wR="3600" hR="3600" stAng="10800000" swAng="-5400000"/>
                <a:lnTo>
                  <a:pt x="18000" y="30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65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1"/>
          <p:cNvSpPr/>
          <p:nvPr/>
        </p:nvSpPr>
        <p:spPr>
          <a:xfrm>
            <a:off x="714240" y="2786040"/>
            <a:ext cx="1857600" cy="264312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643120"/>
              <a:gd name="textAreaBottom" fmla="*/ 2552760 h 2643120"/>
            </a:gdLst>
            <a:ahLst/>
            <a:rect l="textAreaLeft" t="textAreaTop" r="textAreaRight" b="textAreaBottom"/>
            <a:pathLst>
              <a:path w="21600" h="30732">
                <a:moveTo>
                  <a:pt x="3600" y="0"/>
                </a:moveTo>
                <a:arcTo wR="3600" hR="3600" stAng="16200000" swAng="-5400000"/>
                <a:lnTo>
                  <a:pt x="0" y="27132"/>
                </a:lnTo>
                <a:arcTo wR="3600" hR="3600" stAng="10800000" swAng="-5400000"/>
                <a:lnTo>
                  <a:pt x="18000" y="307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>
              <a:alpha val="8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2"/>
          <p:cNvSpPr/>
          <p:nvPr/>
        </p:nvSpPr>
        <p:spPr>
          <a:xfrm>
            <a:off x="3286080" y="2786040"/>
            <a:ext cx="2286000" cy="2643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43120"/>
              <a:gd name="textAreaBottom" fmla="*/ 2531520 h 2643120"/>
            </a:gdLst>
            <a:ahLst/>
            <a:rect l="textAreaLeft" t="textAreaTop" r="textAreaRight" b="textAreaBottom"/>
            <a:pathLst>
              <a:path w="21600" h="24974">
                <a:moveTo>
                  <a:pt x="3600" y="0"/>
                </a:moveTo>
                <a:arcTo wR="3600" hR="3600" stAng="16200000" swAng="-5400000"/>
                <a:lnTo>
                  <a:pt x="0" y="21374"/>
                </a:lnTo>
                <a:arcTo wR="3600" hR="3600" stAng="10800000" swAng="-5400000"/>
                <a:lnTo>
                  <a:pt x="18000" y="24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f3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труктура  категорированных врачей общей практ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650-4733-43C7-96B1-DB6E18571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857160" y="2928960"/>
            <a:ext cx="157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13%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сшая категория врача общей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643200" y="2928960"/>
            <a:ext cx="164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54% - первая категория врача общей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6500880" y="292896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32%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торая категория врача общей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142920" y="192888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46CE-E1FC-4FD1-8D2C-DCC76A52B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1071720" y="1714680"/>
          <a:ext cx="664344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14680"/>
                    <a:ext cx="664344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Box 4"/>
          <p:cNvSpPr/>
          <p:nvPr/>
        </p:nvSpPr>
        <p:spPr>
          <a:xfrm>
            <a:off x="571680" y="14292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Динамика численности офисов, центров и отделений общеврачебной практики 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2004-2007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285840" y="157176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Динамика численности мест в дневных стационарах, которые ведут врачи общей практики за2005-2007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312-69E1-465E-B1EE-57AC793E1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Содержимое 7"/>
          <p:cNvGraphicFramePr/>
          <p:nvPr/>
        </p:nvGraphicFramePr>
        <p:xfrm>
          <a:off x="928800" y="2071800"/>
          <a:ext cx="752292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Содержимое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071800"/>
                    <a:ext cx="752292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19"/>
          <p:cNvSpPr/>
          <p:nvPr/>
        </p:nvSpPr>
        <p:spPr>
          <a:xfrm>
            <a:off x="214200" y="150012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46F-0FBA-4CA7-92B2-136A7622F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5"/>
          <p:cNvSpPr/>
          <p:nvPr/>
        </p:nvSpPr>
        <p:spPr>
          <a:xfrm>
            <a:off x="2786040" y="571680"/>
            <a:ext cx="335772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3cdf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214800" y="1143000"/>
            <a:ext cx="257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рач общей прак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7"/>
          <p:cNvSpPr/>
          <p:nvPr/>
        </p:nvSpPr>
        <p:spPr>
          <a:xfrm>
            <a:off x="928800" y="3571920"/>
            <a:ext cx="300024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3cdf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225440" y="4214880"/>
            <a:ext cx="239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Медици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е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5286240" y="3571920"/>
            <a:ext cx="292896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3cdf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5500800" y="385776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Фельдшеры фельдшерско-акушерских пунк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Двойная стрелка влево/вправо 14"/>
          <p:cNvSpPr/>
          <p:nvPr/>
        </p:nvSpPr>
        <p:spPr>
          <a:xfrm rot="18298800">
            <a:off x="2634120" y="2856960"/>
            <a:ext cx="1076040" cy="527040"/>
          </a:xfrm>
          <a:prstGeom prst="leftRightArrow">
            <a:avLst>
              <a:gd name="adj1" fmla="val 50000"/>
              <a:gd name="adj2" fmla="val 49983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войная стрелка влево/вправо 15"/>
          <p:cNvSpPr/>
          <p:nvPr/>
        </p:nvSpPr>
        <p:spPr>
          <a:xfrm rot="3538800">
            <a:off x="5223240" y="2872800"/>
            <a:ext cx="1014480" cy="49212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6F4A-423D-486F-BF6E-A5069FAE2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800" y="56880"/>
            <a:ext cx="2203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571680" y="357120"/>
            <a:ext cx="3571560" cy="58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ЕОБХОДИМО ОБРАТИТЬСЯ К ВАШЕМУ СЕМЕЙНОМУ ВРАЧ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итесь к своему врачу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ЧЕРЕЗ ДОЛЬШЕ ТРЕХ ДНЕЙ СОХРА­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ЯЕТСЯ ПОВЫШЕНИЕ ТЕМПЕРАТУР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ВОЗМОЖНО ГЛОТАТЬ ИЛИ ПИТЬ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ИЗ-ЗА БОЛЕЙ В ГОРЛ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БОЛИ В ГОРЛЕ СОПРОВОЖДАЮТ­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СЯ ВЫСЫПАНИЕМ НА КОЖЕ В ОБЛАСТИ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ЛИЦА И ТЕЛ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ях, если у вашего ребенка болит горло, необходимо сразу обратиться к своему врачу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 ВАШ  РЕБЕНОК  ВЫГЛЯДИТ ОЧЕНЬ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НЫ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ЕБЕНКА ПОЯВЛЯЕТСЯ ОДЫШКА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АТРУДНЕННОЙ ДЫХ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ОК НЕ В СОСТОЯНИИ ГЛОТАТЬ СЛЮН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оявляются другие симптомы, которые вызывают у вас беспокойство, то вы всегда можете проконсультироваться со своим семейным врач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3714840" cy="6143400"/>
          </a:xfrm>
          <a:prstGeom prst="rect">
            <a:avLst/>
          </a:prstGeom>
          <a:ln w="9360">
            <a:solidFill>
              <a:srgbClr val="385d8a"/>
            </a:solidFill>
            <a:miter/>
          </a:ln>
        </p:spPr>
      </p:pic>
      <p:sp>
        <p:nvSpPr>
          <p:cNvPr id="172" name="TextBox 12"/>
          <p:cNvSpPr/>
          <p:nvPr/>
        </p:nvSpPr>
        <p:spPr>
          <a:xfrm>
            <a:off x="6000840" y="1000080"/>
            <a:ext cx="171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оли в гор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4929120" y="6143760"/>
            <a:ext cx="257184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7500960" y="5857920"/>
            <a:ext cx="9288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0"/>
          <p:cNvSpPr/>
          <p:nvPr/>
        </p:nvSpPr>
        <p:spPr>
          <a:xfrm>
            <a:off x="642960" y="64296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c4bd97">
              <a:alpha val="4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9D5-B227-4CAE-941F-5D7E584D2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>
            <a:alphaModFix amt="79000"/>
          </a:blip>
          <a:stretch/>
        </p:blipFill>
        <p:spPr>
          <a:xfrm>
            <a:off x="5810400" y="0"/>
            <a:ext cx="3333600" cy="47624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5786280" y="0"/>
            <a:ext cx="3357720" cy="369720"/>
          </a:xfrm>
          <a:prstGeom prst="rect">
            <a:avLst/>
          </a:prstGeom>
          <a:solidFill>
            <a:srgbClr val="d1c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357120" y="-212760"/>
            <a:ext cx="521496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rebuchet MS"/>
                <a:ea typeface="Times New Roman"/>
              </a:rPr>
              <a:t>1.Проведение дополнительных семинаров по обмену опытом по специальной программе. В дальнейшем использование полученных знаний при аттестации врачей общей прак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rebuchet MS"/>
                <a:ea typeface="Times New Roman"/>
              </a:rPr>
              <a:t>2.Организация диспетчеризация вызовов, поступивших  на станции  скорой помощи с передачей неотложных вызовов врачам общей практики, участковым врач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rebuchet MS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Trebuchet MS"/>
                <a:ea typeface="Times New Roman"/>
              </a:rPr>
              <a:t>3.Работа по подготовке фельдшерско-акушерских пунктов, их учеба совместной работе  с  врачами общей практики, разработка  взаимосвязи с ними, обмен базами данных, организация совместных мероприятий по профилак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rebuchet MS"/>
                <a:ea typeface="Times New Roman"/>
              </a:rPr>
              <a:t>4.Внедрение подушевого финансирования, в том числе включение средств фельдшерско-акушерских пунктов на территории проживания прикрепленного насе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"/>
          <p:cNvGraphicFramePr/>
          <p:nvPr/>
        </p:nvGraphicFramePr>
        <p:xfrm>
          <a:off x="857160" y="2214720"/>
          <a:ext cx="7215120" cy="35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2">
                    <a:alphaModFix amt="57000"/>
                  </a:blip>
                  <a:stretch/>
                </p:blipFill>
                <p:spPr>
                  <a:xfrm>
                    <a:off x="857160" y="2214720"/>
                    <a:ext cx="721512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A12-7FC0-4AFD-8E57-F8455DE6F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42960" y="3571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Обеспеченность населения Республики Татарстан  амбулаторно-поликлиническими учреждениями за 2001-2007 гг.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(на 10 тыс.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142920" y="185724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Число амбулаторно-поликлинических посещений на 1 жителя Республики Татарстан за 2001-2007гг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C62D-04CF-4F11-AF69-93D102E2D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785880" y="2143080"/>
          <a:ext cx="735804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143080"/>
                    <a:ext cx="735804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Line 19"/>
          <p:cNvSpPr/>
          <p:nvPr/>
        </p:nvSpPr>
        <p:spPr>
          <a:xfrm>
            <a:off x="142920" y="157176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04E1-5A48-4E29-B1DB-1010995F5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395280" y="6453360"/>
            <a:ext cx="874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EFFB-C6AD-4B9B-8CF4-FD474FAF2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5076720" y="1773360"/>
            <a:ext cx="3598920" cy="647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611280" y="1773360"/>
            <a:ext cx="3456000" cy="647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Динамика объемов  государственного задания  и тарифа стоимости посещения в Республике Татарстан в сравнении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с Российской Федерацией  за 2004-2007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4643280" y="2637000"/>
          <a:ext cx="4032360" cy="34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37000"/>
                    <a:ext cx="4032360" cy="34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250920" y="2637000"/>
          <a:ext cx="3960720" cy="34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37000"/>
                    <a:ext cx="396072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12"/>
          <p:cNvSpPr/>
          <p:nvPr/>
        </p:nvSpPr>
        <p:spPr>
          <a:xfrm>
            <a:off x="5537160" y="45086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6614640" y="306864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70707"/>
                </a:solidFill>
                <a:latin typeface="Calibri"/>
              </a:rPr>
              <a:t>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2079360" y="32130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2653920" y="458136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70707"/>
                </a:solidFill>
                <a:latin typeface="Calibri"/>
              </a:rPr>
              <a:t>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798120" y="171468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редние тарифы сто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рачебных посещений (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5367960" y="185724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Количество посещений (мл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214200" y="142884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Структура  тарифа амбулаторно-поликлинической помощи в динамике за 2005-2008 гг.,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(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6A4-2BA7-4D9B-87FB-E44BD137E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285840" y="150012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Структура посещений к участковому терапевту и врачу общей практики в динамике за 2003-2007гг.,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ижний колонтитул 2"/>
          <p:cNvSpPr/>
          <p:nvPr/>
        </p:nvSpPr>
        <p:spPr>
          <a:xfrm>
            <a:off x="3143160" y="6357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533-9AA4-45B3-A18E-C9B750347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4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3833640" cy="4064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928800" y="1571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ковые терапев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Диаграмма 6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383400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5143680" y="1500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ачи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2928960" y="6000840"/>
            <a:ext cx="14292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071880" y="5857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2"/>
          <p:cNvSpPr/>
          <p:nvPr/>
        </p:nvSpPr>
        <p:spPr>
          <a:xfrm>
            <a:off x="4572000" y="6000840"/>
            <a:ext cx="142920" cy="142920"/>
          </a:xfrm>
          <a:prstGeom prst="rect">
            <a:avLst/>
          </a:prstGeom>
          <a:solidFill>
            <a:srgbClr val="f79646">
              <a:alpha val="63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4714920" y="5857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а при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214200" y="150012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Доля первичных обращений пациентов, обслуженных ВОП самостоятельно за 2005-2007гг.,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989B-06F4-4849-9637-AB14974AF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Диаграмма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501040" cy="4064040"/>
          </a:xfrm>
          <a:prstGeom prst="rect">
            <a:avLst/>
          </a:prstGeom>
          <a:ln w="0">
            <a:noFill/>
          </a:ln>
        </p:spPr>
      </p:pic>
      <p:sp>
        <p:nvSpPr>
          <p:cNvPr id="107" name="Line 19"/>
          <p:cNvSpPr/>
          <p:nvPr/>
        </p:nvSpPr>
        <p:spPr>
          <a:xfrm>
            <a:off x="214200" y="121428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Динамика численности врачей поликлиники 2005-2007гг.,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EF0C-7B1E-41F7-8004-BB1E6A13E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Диаграмма 4"/>
          <p:cNvGraphicFramePr/>
          <p:nvPr/>
        </p:nvGraphicFramePr>
        <p:xfrm>
          <a:off x="573120" y="1566720"/>
          <a:ext cx="8148600" cy="44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566720"/>
                    <a:ext cx="8148600" cy="44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19"/>
          <p:cNvSpPr/>
          <p:nvPr/>
        </p:nvSpPr>
        <p:spPr>
          <a:xfrm>
            <a:off x="214200" y="150012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Динамика доли врачей общей практики в общем числе врачей участковой сети за 2003-2007гг.,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 Актаныш, 29 мая 200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1D3-7EE5-4BEC-9992-4449A84A8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1143000" y="1643040"/>
          <a:ext cx="698652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43040"/>
                    <a:ext cx="698652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Box 5"/>
          <p:cNvSpPr/>
          <p:nvPr/>
        </p:nvSpPr>
        <p:spPr>
          <a:xfrm>
            <a:off x="4214880" y="442908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рачи обще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14200" y="1500120"/>
            <a:ext cx="8713800" cy="0"/>
          </a:xfrm>
          <a:prstGeom prst="line">
            <a:avLst/>
          </a:prstGeom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goudinova</cp:lastModifiedBy>
  <dcterms:modified xsi:type="dcterms:W3CDTF">2008-05-28T14:47:55Z</dcterms:modified>
  <cp:revision>92</cp:revision>
  <dc:subject/>
  <dc:title>Слайд 1</dc:title>
</cp:coreProperties>
</file>